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D61A-9777-4723-A0BB-EB3EDCAE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0C41-362B-489E-9E90-082017FD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368C-6632-41E4-872C-8584E3A6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1A6C-D08B-4379-B5E5-B4658CEB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AED3-8620-46AE-B672-535B7B68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4A0B-7EFE-4638-8935-7DDD7417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F669-AB94-47C2-9C11-85E6B2BB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F9DE-819B-49EC-AC27-796A2BCB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E494-741C-4EC0-AF29-CCF01ED4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32BD-F74C-4A95-98C7-F4951B5D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C58-7A9D-46F3-986C-A9DAACED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8C97-BBD8-4293-9B6F-49D45206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6606-3B74-4311-A2A3-522483E0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CFCF-9FCB-4DA5-AA9D-7C978B7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F154-412B-49DC-BE6A-B37ED362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56E1-159C-4FC7-8DD4-AB36FE3A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930F-7657-47CD-999F-B53E5660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2A31-4D42-4A63-B3DB-C1B4EF0D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4BE0-0489-4B78-8A16-266DADAA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C848-B680-49CB-B987-C85DC5A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AF660-1236-4531-A320-D165AA91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0A8A-5A4D-4FED-B200-80437BAB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5689-7336-4581-946F-5AD77946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89AE-1F07-4467-AEEB-AFB4FA0C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FC6A-48B5-4DE8-8F22-DA4E02B2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2B4B-730E-40E3-B135-2A71EB2B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7381-77CE-47CF-8E32-745EBDA3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0048-3CF7-4FCF-B8CA-C30F118D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BBEDD-7DBA-4986-8BB1-C3B3C223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07CC-16D7-43F9-A32E-5DB1AEB0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30C0-0FEF-4A06-9129-4366E6D6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7345-99C5-4084-BA93-394899E2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BA378-CC79-427E-BA26-40C0665F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AFF6-D948-4652-B5A0-C6AED23A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BF17A-98C2-4077-B18E-6E72FC56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AD96A-A79F-4030-9693-257B3C57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8780D-5D68-4CAC-8DF0-FB2DA22C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A157D-6A26-456E-9995-4660436E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6249B-4EAA-4FE6-9B52-BCDB7F9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58862-667A-4B56-B82C-A0B61376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33A98-F929-4786-88E3-79CE3C80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A0894-6689-4B4D-A598-663D3305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C8E8D-0762-4CBA-827D-E4836151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44342-0FF4-4A30-8D1B-420E2B77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7A63-280A-4FD0-BDF3-94092D2A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4AC12-131C-450E-9FCD-00C4E5AD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21064-BB66-4F01-9D95-FF570FD6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5574C-9F0C-40BB-A82E-26A84376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F0C9D-5D89-4342-AD7E-9A975664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924D6-E220-4BFE-A71F-3B5E1E23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8AC0D-A066-45A2-B2FA-46E3837B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D08BE-2897-4752-8691-53D847BB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9F91E-27E8-46E0-A18C-E62A1E85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3CE1C-C301-44AB-9B7F-ADF04B62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FA70C-6E31-4620-81DD-C7497B51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DFA9-2BC5-43D6-9973-A4CF5F92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4AFC4-AE9F-437A-80B3-61BEDD5B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7994-167F-429D-8B21-A2ECC995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9C99-0E67-4BA7-90C5-5BC5E7FF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D863-5DEC-4E01-A243-804EB1C0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E81F-5A32-4E30-8140-E8F76EF141D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49C8-C1D5-4BF9-8595-04D14E7D1C5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E861-E981-4046-B8E9-E84CAB85C9D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0211-7405-44D2-A62A-CC14614716E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7BD1-C64E-4ED6-8ABA-6189BF3AADF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 сфере социального обслуживания населения Республики Карелия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35049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роки проведения процедуры: 05.05.2015 года – 19.06.2015 года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Эксперт – консультант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елая Раиса Васильевна- </a:t>
            </a:r>
            <a:r>
              <a:rPr b="0" lang="ru-RU" sz="1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рший научный сотрудник к.э.н. Институт экономики КарНЦ РАН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рший аналитик Некомерческое партнерство центр социального анализа и реконструкции «Социологос»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33560" y="25146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сперты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.Костина Мария Геннадьевна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, учитель – дефектолог отделения социальной реабилитации детей – инвалидов, детей и подростков с ОВЗ;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Мыхина Светлана Михайловна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, заведующая отделением срочного социального обслуживания;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.Товстая Василиса Владимировна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, заведующая отделением социальной помощи на дому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ниципальное казенное учреждение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омплексный центр социального обслуживания населения»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хденпохского муниципального района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65530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600" y="8377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2b20"/>
                </a:solidFill>
                <a:uFillTx/>
                <a:latin typeface="Times New Roman"/>
                <a:ea typeface="Times New Roman"/>
              </a:rPr>
              <a:t>Состав и количество участников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го получателей: 86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ационар: 21 участник процедуры НСОК – 91,3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лустационар: 41 участник процедуры НСОК – 14,1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дому: 24 участника процедуры НСОК -  11,4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го сотрудников - 58 участников процедуры НСОК - 70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го партнеров в организации 56, участие в анкетировании приняли  7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ационар: 7  участников процедуры НСОК - 100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лустационар:  7  участников процедуры НСОК -  100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дому: 7  участников процедуры НСОК -  100%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2b20"/>
                </a:solidFill>
                <a:uFillTx/>
                <a:latin typeface="Times New Roman"/>
              </a:rPr>
              <a:t>Удовлетворенность получателей услуг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Calibri"/>
              </a:rPr>
              <a:t>Удовлетворенность качеством доступностью условий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223" name="Object 41"/>
          <p:cNvGraphicFramePr/>
          <p:nvPr/>
        </p:nvGraphicFramePr>
        <p:xfrm>
          <a:off x="1447920" y="2666880"/>
          <a:ext cx="54864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54864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45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800" y="8928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27" name="Диаграмма 8" descr=""/>
          <p:cNvPicPr/>
          <p:nvPr/>
        </p:nvPicPr>
        <p:blipFill>
          <a:blip r:embed="rId3"/>
          <a:stretch/>
        </p:blipFill>
        <p:spPr>
          <a:xfrm>
            <a:off x="907920" y="2127240"/>
            <a:ext cx="64137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13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0" lang="ru-RU" sz="14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400"/>
            </a:br>
            <a:r>
              <a:rPr b="0" lang="ru-RU" sz="14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r>
              <a:rPr b="1" lang="ru-RU" sz="1300" spc="-1" strike="noStrike">
                <a:solidFill>
                  <a:srgbClr val="675e47"/>
                </a:solidFill>
                <a:latin typeface="Cambria"/>
              </a:rPr>
              <a:t> </a:t>
            </a:r>
            <a:br>
              <a:rPr sz="1300"/>
            </a:br>
            <a:br>
              <a:rPr sz="1300"/>
            </a:br>
            <a:r>
              <a:rPr b="0" lang="ru-RU" sz="2200" spc="-1" strike="noStrike" u="sng">
                <a:solidFill>
                  <a:srgbClr val="2f2b20"/>
                </a:solidFill>
                <a:uFillTx/>
                <a:latin typeface="Times New Roman"/>
                <a:ea typeface="Times New Roman"/>
              </a:rPr>
              <a:t>Работники: самооценка профессиональных </a:t>
            </a:r>
            <a:br>
              <a:rPr sz="2200"/>
            </a:br>
            <a:r>
              <a:rPr b="0" lang="ru-RU" sz="2200" spc="-1" strike="noStrike" u="sng">
                <a:solidFill>
                  <a:srgbClr val="2f2b20"/>
                </a:solidFill>
                <a:uFillTx/>
                <a:latin typeface="Times New Roman"/>
                <a:ea typeface="Times New Roman"/>
              </a:rPr>
              <a:t>компетенций и удовлетворенность качеством</a:t>
            </a:r>
            <a:br>
              <a:rPr sz="2200"/>
            </a:b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229" name="Диаграмма 6" descr=""/>
          <p:cNvPicPr/>
          <p:nvPr/>
        </p:nvPicPr>
        <p:blipFill>
          <a:blip r:embed="rId1"/>
          <a:stretch/>
        </p:blipFill>
        <p:spPr>
          <a:xfrm>
            <a:off x="450720" y="1822320"/>
            <a:ext cx="785808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 сфере социального обслуживания населения Республики Карелия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2b20"/>
                </a:solidFill>
                <a:uFillTx/>
                <a:latin typeface="Times New Roman"/>
              </a:rPr>
              <a:t>Удовлетворенность партнеров Центр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2" name="Rectangle 136"/>
          <p:cNvSpPr/>
          <p:nvPr/>
        </p:nvSpPr>
        <p:spPr>
          <a:xfrm>
            <a:off x="0" y="431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33" name="Диаграмма 5" descr=""/>
          <p:cNvPicPr/>
          <p:nvPr/>
        </p:nvPicPr>
        <p:blipFill>
          <a:blip r:embed="rId1"/>
          <a:stretch/>
        </p:blipFill>
        <p:spPr>
          <a:xfrm>
            <a:off x="835200" y="1901880"/>
            <a:ext cx="64008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28240" y="7621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2b20"/>
                </a:solidFill>
                <a:uFillTx/>
                <a:latin typeface="Times New Roman"/>
              </a:rPr>
              <a:t>Результаты независимой оценки качеств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04920" y="1371600"/>
          <a:ext cx="7759440" cy="5354640"/>
        </p:xfrm>
        <a:graphic>
          <a:graphicData uri="http://schemas.openxmlformats.org/drawingml/2006/table">
            <a:tbl>
              <a:tblPr/>
              <a:tblGrid>
                <a:gridCol w="1084320"/>
                <a:gridCol w="2984400"/>
                <a:gridCol w="1235160"/>
                <a:gridCol w="1295280"/>
                <a:gridCol w="116028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Показатели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стационар</a:t>
                      </a:r>
                      <a:endParaRPr b="0" lang="en-US" sz="9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полустационар</a:t>
                      </a:r>
                      <a:endParaRPr b="0" lang="en-US" sz="9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Обслуживание </a:t>
                      </a:r>
                      <a:endParaRPr b="0" lang="en-US" sz="9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на дому</a:t>
                      </a:r>
                      <a:endParaRPr b="0" lang="en-US" sz="9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 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Открытость и доступность информац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об организации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20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20,0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20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омфортность условий предоставления социальных услуг и доступность их получения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22,8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21,9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17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Время ожидания предоставления социальной услуги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5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5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3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Доброжелательность, вежливость, компетентность работников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10,6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11,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9,9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Удовлетворенность качеством оказания услуг.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8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 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VI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Созидательность управленческого процесса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Arial"/>
                          <a:ea typeface="Calibri"/>
                        </a:rPr>
                        <a:t>Максимальное значение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102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104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97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Arial"/>
                          <a:ea typeface="Calibri"/>
                        </a:rPr>
                        <a:t>Всего общие итоги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82,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82,9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76,9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br>
              <a:rPr sz="1800"/>
            </a:br>
            <a:r>
              <a:rPr b="0" lang="ru-RU" sz="18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0" lang="ru-RU" sz="2400" spc="-1" strike="noStrike" u="sng">
                <a:solidFill>
                  <a:srgbClr val="675e47"/>
                </a:solidFill>
                <a:uFillTx/>
                <a:latin typeface="Times New Roman"/>
              </a:rPr>
              <a:t>Наиболее высокие показатели качества оказания социальных услуг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Доступность условий для оказания услуг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Благоустройство территории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Изменение качества жизни в результате получения социальных услуг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Удовлетворенность качеством проводимых мероприятий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Полнота и доступность информации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Все перечисленные критерии имеют высокую оценку среди получателей услуг (более 95% опрошенных указывают на это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239" name="Picture 7" descr="CAM02357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1" lang="ru-RU" sz="16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br>
              <a:rPr sz="1600"/>
            </a:br>
            <a:r>
              <a:rPr b="0" lang="ru-RU" sz="18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0" lang="ru-RU" sz="2400" spc="-1" strike="noStrike" u="sng">
                <a:solidFill>
                  <a:srgbClr val="675e47"/>
                </a:solidFill>
                <a:uFillTx/>
                <a:latin typeface="Times New Roman"/>
              </a:rPr>
              <a:t>Точки роста качества оказания социальных услуг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ширение включенности получателя в разработку и реализацию нормативной правовой базы учреждения для повышения уровня осознанности получателя услуг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обходимо предусмотреть создание альтернативной версии сайта организации в сети «Интернет» для инвалидов по зрению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здание условий для развития профессионального потенциала специалистов и  своевременного повышения ими квалификации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вышение уровня соответствия оборудования оказываемому спектру услуг, согласно современным требованиям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ализ внутренней и независимой оценки качества  оказания услуг позволит  совершенствовать  качество  и повысит надежность внутренней системы оценки качества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15-07-07T10:46:14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